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459-11D7-416C-8226-807F1186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5534-DB1D-4012-AE2F-EC9BFB8B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AE5-70EB-472E-AC4D-D0375C85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5E0-75AA-4842-8CE8-61426706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DE8-FADB-446B-9DDB-E34F9234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76E-485B-478D-9CC6-96092D33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EA8-8693-424B-B083-89153098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40C-8609-47A1-AA0A-CDAC0446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EA3-04F8-4345-B09D-C2328B26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B68-B185-403C-9EF2-CEF9E276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AF8-BD15-4E3F-9DD5-3FEDC575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49B-B15F-4EAB-AAE3-6D4157B5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D5FF-DAFD-4A50-83D6-76C6A96B3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Representation Rec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arning Objectiv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vise key terms and concepts related to re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Timed Prac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ction B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ontemporary Media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ction B of the Critical Perspectives exam is based on the set topic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edia and Collective Ident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will be studying a range of texts, theories and debates whilst focussing on several in class case stu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ou will also be asked to conduct some individual research on your own case stu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reas of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651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xam board ask each student to consider a set of prompt questions for each topic, which they will be expected to respond to in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Media and Collective Identity topic these are the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do contemporary media represent collective nations/regions in different w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do contemporary representations compare to previous time peri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at are the social implications of different represent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o what extent is human identity increasingly ‘mediated’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 will be working our way through these questions over the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is meant by represent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In the media representations are often thought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as ‘re-presentations’ of a particular social grou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hey are seen by some media theorists  as ‘so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constructions’, presented to us by the media 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he truth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uring A2 Media we will hope to gain a deep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nderstanding of representational issues and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fluidity of representation’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asic application of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Watch the opening of </a:t>
            </a: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‘Mean Girls’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 and consider the representation of the following demographic fa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G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Ethn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Sex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Consider some of the key terms from the test and make no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ask: from your notes you will 30 minutes to answer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following ques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How is the issue of representation approached in the opening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Mean Girls’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3:07:06Z</dcterms:created>
  <dc:creator>gokul</dc:creator>
  <dc:description/>
  <dc:language>en-US</dc:language>
  <cp:lastModifiedBy>ppermaul.316</cp:lastModifiedBy>
  <dcterms:modified xsi:type="dcterms:W3CDTF">2010-09-08T13:59:15Z</dcterms:modified>
  <cp:revision>20</cp:revision>
  <dc:subject/>
  <dc:title>Representation In Soap Opera</dc:title>
</cp:coreProperties>
</file>